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C60A-05B0-489B-A556-EBB597D2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3B8-C4AC-4F05-BB99-F420F8A3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117-05E9-473A-8FB7-FF283366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E29-8174-4573-AAD7-F2991424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3D66-F877-40D4-B4CA-3C234EC0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23C6-C033-4BEE-A11D-59AE69B3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A4B7-BD36-4004-B4CB-B463EF16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E135-8460-45AC-904A-4E4F930B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C851-365A-4374-8338-CB9FBB56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6BB0-CE8B-4EF5-B286-537DA11E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8367-E6F9-4883-9C08-31141161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C9A-239B-4878-A033-8098DF87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CE0E-D17A-40F6-88DC-CBDD6473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630C-9548-440C-866C-BE62C676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B05B-C5FE-4E37-9150-5416D2EA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F1F3-3B73-4BD9-A583-AEE99E49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F6EF-96FD-47B2-8B00-BE2C93A6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1EA2-4C95-4AB4-A216-A2AB4738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962C-2186-485D-945C-5DFB324B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12A-A220-4AD5-B5BA-28320C00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B3B-D88C-4579-979B-F2D7A9F1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9D2-674B-4E71-A6D8-658F68FD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A36-01A3-416F-A5EA-DDA091EC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7F8F-5D26-43E5-AAAB-4ED69490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47EB-0D21-4412-AC55-1C394B9141DC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A4BF-C485-46A1-AEC6-DB2FCAD9CE01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PEP for EC Student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73480" y="1981080"/>
            <a:ext cx="43956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EC PEP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Can be used for an EC student who is below grade level and/or made a Level I or II on the EOG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Serves as a bridge between the regular education and special education provided to a student in order to help the student meet the accountability standards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For students on the extension of the SCOS, the PEP serves as a bridge between all services provided in order to help the student meet the state accountability standards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For students who have additional needs beyond the IEP (such as a student identified in math, but is struggling with reading), the regular Tier I/PEP needs to be completed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Special Note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Directions have changed slightly.  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Review the “When”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In addition to developing the PEP with the EC teacher, they also need to meet two additional times during the year.  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WHY?  To be sure the EC teacher and regular education teacher are collaborating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23:51:19Z</dcterms:created>
  <dc:creator>Chatham County Schools</dc:creator>
  <dc:description/>
  <dc:language>en-US</dc:language>
  <cp:lastModifiedBy>Chatham County Schools</cp:lastModifiedBy>
  <dcterms:modified xsi:type="dcterms:W3CDTF">2010-06-17T23:51:52Z</dcterms:modified>
  <cp:revision>1</cp:revision>
  <dc:subject/>
  <dc:title>PEP for EC Student</dc:title>
</cp:coreProperties>
</file>